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6EEA-BCA3-47D4-8A64-7CDF12B6E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5CAE-B01F-4608-9BAB-B3F6A92C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1CB8-3452-4F09-935A-58F9426F9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0B31-9F1D-45A7-B871-AF2FBB3D6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70F6-FD63-4FC7-A01D-737CF917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8445-E8FE-4039-A928-C2D28D92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DA1E-85FF-4BD0-B886-6C2D72F7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5835-DF59-4603-86A7-3A56911F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BE5B-A6E5-4043-80A3-EB619093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A6D3-BB34-4CFF-BECF-BACD58AC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90C4-3096-44DC-974F-04E07B78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C2F0-356B-42E7-8F1F-DFAC38B2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1A43-FD1D-44C6-98BE-54FE8CD012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anguage Foc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920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couple used up all their money to seek their 5-year-old son, who got lost months a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Use up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用完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用尽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筋疲力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: I have used up all the c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ldiers were used up after the long bat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２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only later that the world recognized his great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本句为强调句，原句式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Foc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920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the world recognized his great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强调句的结构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It is / was … that / who 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I that/who saw a film in the Youth Palace last night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强调主语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a film that I saw in the Youth Palace last night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强调宾语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last night that I saw a film in the Youth Palace 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强调时间状语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000" y="189000"/>
            <a:ext cx="806436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in the Youth Palace that I saw a film last night.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强调地点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because he mother was ill that she didn’t go with us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强调原因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…only by discovering what we do best can we hope to reach our goals and truly make a differ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倒装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正常语序应该是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ope to reach our goals and truly make a difference by discovering what we do b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用倒装的目的是为了加强语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then did I realize its impir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Foc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in this way can we solve the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when people lose freedom do they know its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4-08-15T15:13:32Z</dcterms:modified>
  <cp:revision>2</cp:revision>
  <dc:subject/>
  <dc:title>PowerPoint Presentation</dc:title>
</cp:coreProperties>
</file>